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carbrake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8BA-02CB-4ED4-82CF-70E2216F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72F-C73A-4229-A289-DCCB545C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576-C8E2-4D51-AB2E-FB6B4F3E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6B4-3950-4AAE-A8F8-00EF9E06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4D70-7F91-4159-9DC2-A51D1369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710D-5105-4613-B906-D6DF4864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5B62-FF3E-40CE-B910-AE3FA77A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7825-5A0E-4608-9B8E-2297390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A267-A8B2-4F08-8497-79EBB8AF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101B-69AD-47FF-A66E-E62FD95B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E6F8-74A6-403F-8D43-A2808E92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0F7-F274-46D5-BABA-F3A56B23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8574-31A4-46B8-AEEF-E261F324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A2A3-9405-4891-B29E-31804B8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8543-2187-48FB-B518-CC0891CD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7F73-6EAC-419C-85B6-BCAAD827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FECA-CC69-480E-B415-89DF81A0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D6E0B-D307-41A9-9221-BB440C66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DE231-96D1-4098-8937-CE130EDC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19DAF-952E-4D7A-B3FC-946A8A10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87838-22E4-4535-B731-C20C7E64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AC03D-4AA4-46E3-9254-9417B66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F59-51EF-4494-AA72-B210B5A0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B2531-4C7B-464B-B7E6-3790740B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86B45-F2E2-439A-86B2-6745836A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922E8-AF98-4A84-88A0-358D753E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06B5C-662B-401B-B24B-B0E3631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CE5C4-37DE-46DC-9883-A85D4F7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E95C7-38AA-48EF-A451-C4DAEDAC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38721-6428-4383-ACB9-74887795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695A-FF4C-4539-8D13-3A54E5D8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A229-EE3C-4162-A376-5016DE2F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15DD-4EED-4B35-B5F8-5D477125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0EC-E277-4D1D-99B4-705B3309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85FC-4A2F-4FF5-A1D7-754D5A5E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303B-A934-4B19-9912-B86F590B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AF47-F4C5-4CBD-9E31-FCBDB4FB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F587-009A-4E9D-BEA7-3DA72047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A87E-DD45-40D4-BCD1-415BA8A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8489-F08D-4463-AE10-2918DB6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33E5-74A7-4611-9312-F961A54E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6978C-FEB5-4627-8D53-FF84BF83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CA78-4646-4D9C-AF71-397E87CE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965D1-2EC6-43EA-B714-0AA8EA1F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9D2-BE23-4F3A-916F-D9460EBC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F2EDC-24C6-4058-889B-89F99860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1D17C-086F-45DB-BCA1-026D3351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04DC3-FF47-410E-88E5-1913527C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36945-9648-404B-84CB-2BC4015C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D014A-AADD-459A-B2FD-BB77D714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3976F-21F2-4F56-9E54-9C719CC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1667D-9F80-4698-AE4B-0A389DA5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AC4EB-0E35-40E1-BA8C-0EEACAD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95CBF-983B-465E-AE34-2E8B33E7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B98BA-E143-4E02-BC81-5691AF0E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408-9856-4BC9-B929-D9A00426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5B513-399F-4737-80DD-16952167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2AC56-D9A6-4E96-8239-10DF639B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28F11-77E5-4E09-AEDA-79F66521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1795D9-3AB8-4E8C-BF38-BFE8D77E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2A3AE-F4FE-4F8E-B528-52010F9B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67E87-1568-402C-AF62-3031B511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A2E47-C7D7-4EB2-9DDA-5652B5CC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37E7F-1F8E-4AE9-B067-963624B7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932B6-D6EE-42C1-9D5F-E993C67A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E5AFC-D49F-4C4B-A7F3-090700F3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A21-7A4A-4773-B97C-F0B3F8E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CB4F2-D0FC-43E4-8074-C512CB2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E94CB-1263-4393-A8CC-9A04D156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5B96F-6A16-4E00-8438-B87FB61A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2AE06-A567-48AA-9607-BAC50713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A6FE7-559C-4462-89A2-C9413529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94701-CBBD-4DFD-A966-7D289237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0BCD4-42DA-4E5E-B2CC-3202124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2C201-B3EE-448C-BE22-518B59CE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00A49-6AFD-4492-8852-8956BE0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FE9B2-6A31-41BC-850F-54ED06E4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4DE-B920-41D3-9F51-D2062549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0BDAD-8573-4885-9373-D8B9FF4D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3319E-DF62-4C4A-8FCD-7526D909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3F2E0-1C6A-442B-B3C4-300058D8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9D2AC-7A8B-48AD-8EA5-8CE2ECAF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4F424-1981-4957-AEF9-B14D9DA2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846-6D9F-4CCB-A64E-E8086E7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D209-C5EF-4B7E-9B8D-48B3BEFC97B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B6E9-A10C-43AE-8ADD-C8E5870CF41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62B9-08C1-4E6C-AD30-9A3DFC94C1C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106D-D840-4EA0-9CC1-C155AE834B2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AC7C-990D-4A49-8FF8-B7695C5D9A7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15E7-1314-44A3-8F5B-88956B7AA7B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9FF4-9295-4DD6-AA56-2B116E38687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Century Schoolbook"/>
              </a:rPr>
              <a:t>RIESGOS DERIVADOS DE PROCESOS EROSIVOS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FACTORES QUE FAVORECEN LOS MOVIMIENTOS DE LADER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Fuerte pendien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esencia de agua. El agua hace que los materiales cambien su comportamiento (ej. Arcillas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Ausencia de vegetación. La vegetación absorbe parte del agua de lluvia, evita la escorrentía vegetal, sujeción del terre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-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ncia de estratos de diferente permeabilidad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Presencia de materiales alterado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Estratificación paralela a la pendien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Presencia de fracturas, diaclasas o falla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RIESGO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irectos: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blación o infraestructuras situadas al pie de la ladera o en la cabece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direct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 Rotura o desbordamiento de presas.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- Inundación por represamiento de un cau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PREDICCIÓ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artografía de riesgos (mapas de pendientes, por ejemplo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tección de movimientos que han ocurrido en el pasa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PREVENCIÓN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371600"/>
            <a:ext cx="828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vitar asentamientos en zonas de riesg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dias correctora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ción de la geometría del terreno (de la pendiente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ción de drenajes para evacuar el agua del terreno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net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z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alerí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anjas de drena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ubos de drenaj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vegetación de taludes para disminuir la escorrentía superficial y            sujetar el terreno (raíces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ructuras de conten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ur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d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llas metálic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clajes (bulones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1" lang="es-E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lot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11"/>
          <p:cNvGrpSpPr/>
          <p:nvPr/>
        </p:nvGrpSpPr>
        <p:grpSpPr>
          <a:xfrm>
            <a:off x="969840" y="544680"/>
            <a:ext cx="7203960" cy="5768640"/>
            <a:chOff x="969840" y="544680"/>
            <a:chExt cx="7203960" cy="5768640"/>
          </a:xfrm>
        </p:grpSpPr>
        <p:grpSp>
          <p:nvGrpSpPr>
            <p:cNvPr id="377" name="Group 9"/>
            <p:cNvGrpSpPr/>
            <p:nvPr/>
          </p:nvGrpSpPr>
          <p:grpSpPr>
            <a:xfrm>
              <a:off x="974520" y="549000"/>
              <a:ext cx="7194600" cy="5758920"/>
              <a:chOff x="974520" y="549000"/>
              <a:chExt cx="7194600" cy="5758920"/>
            </a:xfrm>
          </p:grpSpPr>
          <p:sp>
            <p:nvSpPr>
              <p:cNvPr id="378" name="Rectangle 8"/>
              <p:cNvSpPr/>
              <p:nvPr/>
            </p:nvSpPr>
            <p:spPr>
              <a:xfrm>
                <a:off x="974520" y="549000"/>
                <a:ext cx="7194600" cy="5758920"/>
              </a:xfrm>
              <a:prstGeom prst="rect">
                <a:avLst/>
              </a:prstGeom>
              <a:solidFill>
                <a:srgbClr val="deed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grpSp>
            <p:nvGrpSpPr>
              <p:cNvPr id="379" name="Group 7"/>
              <p:cNvGrpSpPr/>
              <p:nvPr/>
            </p:nvGrpSpPr>
            <p:grpSpPr>
              <a:xfrm>
                <a:off x="974520" y="549000"/>
                <a:ext cx="7194600" cy="5758920"/>
                <a:chOff x="974520" y="549000"/>
                <a:chExt cx="7194600" cy="5758920"/>
              </a:xfrm>
            </p:grpSpPr>
            <p:grpSp>
              <p:nvGrpSpPr>
                <p:cNvPr id="380" name="Group 5"/>
                <p:cNvGrpSpPr/>
                <p:nvPr/>
              </p:nvGrpSpPr>
              <p:grpSpPr>
                <a:xfrm>
                  <a:off x="974520" y="549000"/>
                  <a:ext cx="7194600" cy="5306040"/>
                  <a:chOff x="974520" y="549000"/>
                  <a:chExt cx="7194600" cy="5306040"/>
                </a:xfrm>
              </p:grpSpPr>
              <p:sp>
                <p:nvSpPr>
                  <p:cNvPr id="381" name="Rectangle 2"/>
                  <p:cNvSpPr/>
                  <p:nvPr/>
                </p:nvSpPr>
                <p:spPr>
                  <a:xfrm>
                    <a:off x="974520" y="549000"/>
                    <a:ext cx="6259680" cy="4196880"/>
                  </a:xfrm>
                  <a:prstGeom prst="rect">
                    <a:avLst/>
                  </a:prstGeom>
                  <a:solidFill>
                    <a:srgbClr val="deed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</p:txBody>
              </p:sp>
              <p:sp>
                <p:nvSpPr>
                  <p:cNvPr id="382" name="Rectangle 3"/>
                  <p:cNvSpPr/>
                  <p:nvPr/>
                </p:nvSpPr>
                <p:spPr>
                  <a:xfrm>
                    <a:off x="974520" y="549000"/>
                    <a:ext cx="7194600" cy="5306040"/>
                  </a:xfrm>
                  <a:prstGeom prst="rect">
                    <a:avLst/>
                  </a:prstGeom>
                  <a:solidFill>
                    <a:srgbClr val="deed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  </a:t>
                    </a:r>
                    <a:r>
                      <a:rPr b="0" lang="es-ES" sz="324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 </a:t>
                    </a:r>
                    <a:r>
                      <a:rPr b="0" lang="es-E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                                                                                        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</p:txBody>
              </p:sp>
            </p:grpSp>
            <p:sp>
              <p:nvSpPr>
                <p:cNvPr id="383" name="Rectangle 6"/>
                <p:cNvSpPr/>
                <p:nvPr/>
              </p:nvSpPr>
              <p:spPr>
                <a:xfrm>
                  <a:off x="974520" y="549000"/>
                  <a:ext cx="7194600" cy="57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</p:grpSp>
        </p:grpSp>
        <p:sp>
          <p:nvSpPr>
            <p:cNvPr id="384" name="Rectangle 10"/>
            <p:cNvSpPr/>
            <p:nvPr/>
          </p:nvSpPr>
          <p:spPr>
            <a:xfrm>
              <a:off x="969840" y="544680"/>
              <a:ext cx="7203960" cy="5768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85" name="Picture 4" descr="http://www.eird.org/deslizamientos/pictures/pic128/pic128.jpg"/>
          <p:cNvPicPr/>
          <p:nvPr/>
        </p:nvPicPr>
        <p:blipFill>
          <a:blip r:embed="rId1"/>
          <a:stretch/>
        </p:blipFill>
        <p:spPr>
          <a:xfrm>
            <a:off x="1162080" y="59544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ff965c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969840" y="819000"/>
            <a:ext cx="7203960" cy="5221080"/>
            <a:chOff x="969840" y="819000"/>
            <a:chExt cx="7203960" cy="5221080"/>
          </a:xfrm>
        </p:grpSpPr>
        <p:grpSp>
          <p:nvGrpSpPr>
            <p:cNvPr id="389" name="Group 11"/>
            <p:cNvGrpSpPr/>
            <p:nvPr/>
          </p:nvGrpSpPr>
          <p:grpSpPr>
            <a:xfrm>
              <a:off x="974520" y="823680"/>
              <a:ext cx="7194600" cy="5211720"/>
              <a:chOff x="974520" y="823680"/>
              <a:chExt cx="7194600" cy="5211720"/>
            </a:xfrm>
          </p:grpSpPr>
          <p:sp>
            <p:nvSpPr>
              <p:cNvPr id="390" name="Rectangle 10"/>
              <p:cNvSpPr/>
              <p:nvPr/>
            </p:nvSpPr>
            <p:spPr>
              <a:xfrm>
                <a:off x="974520" y="823680"/>
                <a:ext cx="7194600" cy="5211720"/>
              </a:xfrm>
              <a:prstGeom prst="rect">
                <a:avLst/>
              </a:prstGeom>
              <a:solidFill>
                <a:srgbClr val="deed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grpSp>
            <p:nvGrpSpPr>
              <p:cNvPr id="391" name="Group 9"/>
              <p:cNvGrpSpPr/>
              <p:nvPr/>
            </p:nvGrpSpPr>
            <p:grpSpPr>
              <a:xfrm>
                <a:off x="974520" y="823680"/>
                <a:ext cx="7194600" cy="5211720"/>
                <a:chOff x="974520" y="823680"/>
                <a:chExt cx="7194600" cy="5211720"/>
              </a:xfrm>
            </p:grpSpPr>
            <p:grpSp>
              <p:nvGrpSpPr>
                <p:cNvPr id="392" name="Group 7"/>
                <p:cNvGrpSpPr/>
                <p:nvPr/>
              </p:nvGrpSpPr>
              <p:grpSpPr>
                <a:xfrm>
                  <a:off x="974520" y="823680"/>
                  <a:ext cx="7194600" cy="4757400"/>
                  <a:chOff x="974520" y="823680"/>
                  <a:chExt cx="7194600" cy="4757400"/>
                </a:xfrm>
              </p:grpSpPr>
              <p:sp>
                <p:nvSpPr>
                  <p:cNvPr id="393" name="Rectangle 4"/>
                  <p:cNvSpPr/>
                  <p:nvPr/>
                </p:nvSpPr>
                <p:spPr>
                  <a:xfrm>
                    <a:off x="974520" y="823680"/>
                    <a:ext cx="6259680" cy="4197600"/>
                  </a:xfrm>
                  <a:prstGeom prst="rect">
                    <a:avLst/>
                  </a:prstGeom>
                  <a:solidFill>
                    <a:srgbClr val="deed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</p:txBody>
              </p:sp>
              <p:sp>
                <p:nvSpPr>
                  <p:cNvPr id="394" name="Rectangle 5"/>
                  <p:cNvSpPr/>
                  <p:nvPr/>
                </p:nvSpPr>
                <p:spPr>
                  <a:xfrm>
                    <a:off x="974520" y="823680"/>
                    <a:ext cx="7194600" cy="4757400"/>
                  </a:xfrm>
                  <a:prstGeom prst="rect">
                    <a:avLst/>
                  </a:prstGeom>
                  <a:solidFill>
                    <a:srgbClr val="deed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  </a:t>
                    </a:r>
                    <a:r>
                      <a:rPr b="0" lang="es-ES" sz="28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 </a:t>
                    </a:r>
                    <a:r>
                      <a:rPr b="0" lang="es-ES" sz="1800" spc="-1" strike="noStrike">
                        <a:solidFill>
                          <a:srgbClr val="000000"/>
                        </a:solidFill>
                        <a:latin typeface="Franklin Gothic Book"/>
                      </a:rPr>
                      <a:t>                                                                                        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entury Schoolbook"/>
                    </a:endParaRPr>
                  </a:p>
                </p:txBody>
              </p:sp>
            </p:grpSp>
            <p:sp>
              <p:nvSpPr>
                <p:cNvPr id="395" name="Rectangle 8"/>
                <p:cNvSpPr/>
                <p:nvPr/>
              </p:nvSpPr>
              <p:spPr>
                <a:xfrm>
                  <a:off x="974520" y="823680"/>
                  <a:ext cx="7194600" cy="521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</p:grpSp>
        </p:grpSp>
        <p:sp>
          <p:nvSpPr>
            <p:cNvPr id="396" name="Rectangle 12"/>
            <p:cNvSpPr/>
            <p:nvPr/>
          </p:nvSpPr>
          <p:spPr>
            <a:xfrm>
              <a:off x="969840" y="819000"/>
              <a:ext cx="7203960" cy="5221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97" name="Picture 6" descr="http://www.eird.org/deslizamientos/pictures/pic284/pic284.jpg"/>
          <p:cNvPicPr/>
          <p:nvPr/>
        </p:nvPicPr>
        <p:blipFill>
          <a:blip r:embed="rId1"/>
          <a:stretch/>
        </p:blipFill>
        <p:spPr>
          <a:xfrm>
            <a:off x="1143000" y="8701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057320" y="1600200"/>
            <a:ext cx="6267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057320" y="1600200"/>
            <a:ext cx="6267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57320" y="1600200"/>
            <a:ext cx="6267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057320" y="1600200"/>
            <a:ext cx="6267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MOVIMIENTOS DE L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on movimientos de materiales a favor de la gravedad. Están asociados a la presencia de pendientes y a la presencia de agua. Se pueden agrupar para su estudio en cuatro grup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DESLIZAMIENTO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ovimientos a favor de una superficie de fractura. En función de cuál sea esta superficie se distinguen 2 tipo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lizamientos traslacionales. Cuando la superficie de fractura tiene menor o igual pendiente que el terreno. Es más fácil que se produzca cuando hay fallas o cuando alternan rocas competentes y menos competent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slizamientos rotacionales (slump). Cuando la superficie de deslizamiento es un plano curvo. Suelen darse en materiales poco cohesivos y laderas escarpadas. Previo al deslizamiento se producen unas grietas en lo alto del escarp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DESPRENDIMIENTO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aída de bloques de rocas desde los escarpes. Puede deberse a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 socavación del escarpe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esencia de fracturas y/o planos de estratificación que individualizan bloques de roc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FLUJO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ovimientos de materiales sueltos que se comportan como fluido cuando se mezclan con agua (los materiales arcillosos son los más comunes).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Soliflux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os flujos pueden producirse con pendientes mínimas. Cuando son provocados por la actividad de un volcán reciben el nombre de lahar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"/>
                <a:ea typeface="Arial"/>
              </a:rPr>
              <a:t>AVALANCHA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ovimientos rápidos de materiales mal clasificados (hay materiales de todos los tamaños mezclados) y sueltos. Pueden alcanzar grandes velocidades. Son facilitados por la presencia de agua y materiales arcillosos. La actividad volcánica y sísmica suele actuar como desencadena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4" name="Object 1"/>
          <p:cNvGraphicFramePr/>
          <p:nvPr/>
        </p:nvGraphicFramePr>
        <p:xfrm>
          <a:off x="1905120" y="128520"/>
          <a:ext cx="495288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8520"/>
                    <a:ext cx="495288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Reptación"/>
          <p:cNvPicPr/>
          <p:nvPr/>
        </p:nvPicPr>
        <p:blipFill>
          <a:blip r:embed="rId1"/>
          <a:stretch/>
        </p:blipFill>
        <p:spPr>
          <a:xfrm>
            <a:off x="1857240" y="1071720"/>
            <a:ext cx="53787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Flujo"/>
          <p:cNvPicPr/>
          <p:nvPr/>
        </p:nvPicPr>
        <p:blipFill>
          <a:blip r:embed="rId1"/>
          <a:stretch/>
        </p:blipFill>
        <p:spPr>
          <a:xfrm>
            <a:off x="109440" y="714240"/>
            <a:ext cx="9034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9:13:14Z</dcterms:created>
  <dc:creator>Inma</dc:creator>
  <dc:description/>
  <dc:language>en-US</dc:language>
  <cp:lastModifiedBy>Inma</cp:lastModifiedBy>
  <dcterms:modified xsi:type="dcterms:W3CDTF">2011-11-15T19:26:23Z</dcterms:modified>
  <cp:revision>3</cp:revision>
  <dc:subject/>
  <dc:title>Riesgos derivados de procesos erosivos.</dc:title>
</cp:coreProperties>
</file>